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2115-033F-4297-B87E-EA3AF9D5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FF41-7786-431D-871A-960BB6B2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B6B5-EAB5-4C81-8190-62C806DF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7733-87EF-4981-91B3-2647922E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F84B-BCD4-4B81-B871-4B281B6B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E8BD-6AA8-45BF-BF33-7C02EE2F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07BD-F48A-4E57-8728-5873EB85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C7A9-D681-4FAB-B9BC-513ADDAD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FF1C-BA44-49CB-8718-F29DF398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B050-13F6-41FB-B876-B76E315E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F4C9-4900-4080-8720-F4C70623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2D46-104E-41F8-B966-3F6D3834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9DC9-14B9-4BCA-92C6-99BFB704C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13 Ty si moja rado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od tvojej lásky u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ni bolesť, hoc ma muč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kdy neodlúč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íš sa, srdce mo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 svetlo tvo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pečný tvoj hr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a v každom kríž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láskou k tebe blíž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môže ti rá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ti nedá zblúdiť v tmá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keď postihne ťa žalo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 tvoja rados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si moja rado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ôjho srdca žiado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 Ježiš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cem v svete zúf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le v teba dúf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pomoc najbližši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i pri mne, pokoj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 teba len, inde nie 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avé utíš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d ochranou tvoj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ľakám sa bojov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ebe štít svoj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je búrka div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ma pred zlým skrýva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chraňuješ sám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ma satan zničiť chc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to, Pane, nedopustí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ma neopustí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cem sveta sla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u i v nebies vla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poklad mô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ská česť a slá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u často dá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ba nepok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7T16:00:03Z</dcterms:modified>
  <cp:revision>21</cp:revision>
  <dc:subject/>
  <dc:title>Je veľký náš Pán, on slávy je Kráľ Nech do všetkých strán  spev vrúcnych znie chvál.</dc:title>
</cp:coreProperties>
</file>